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8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f6921"/>
                </a:solidFill>
                <a:latin typeface="Calisto MT"/>
              </a:rPr>
              <a:t>Click to move the slid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2BD7ED-294D-4295-9D74-AE17E80DD3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9352F1-E707-446F-8057-659EBF9B3B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847E9-F220-496E-8ABD-7E71A4A28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ardworks GCSE Science: Phys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adio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03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337298-205B-4330-BABD-3436E91B9D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word association activity could be used as a stimulus for either a small-group or whole-class discussion on the advantages and disadvantages of radiation and people’s perceptions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452160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896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216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340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216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3340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0200" y="799920"/>
            <a:ext cx="7231320" cy="135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96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f6921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Object 3"/>
          <p:cNvGraphicFramePr/>
          <p:nvPr/>
        </p:nvGraphicFramePr>
        <p:xfrm>
          <a:off x="8586720" y="0"/>
          <a:ext cx="557280" cy="70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86720" y="0"/>
                    <a:ext cx="55728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sidestory.iop.org/insidestory_flash1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acticalphysics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../10S1/Book2.xls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2056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SASP – Radioactivit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Karen Fisher – Helena Romanes School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96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Autofit/>
          </a:bodyPr>
          <a:p>
            <a:pPr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0200" y="428400"/>
            <a:ext cx="7231320" cy="32842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Addressing fears…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840" y="1071360"/>
            <a:ext cx="8572680" cy="57848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he concepts you use to teach about radio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cal Physics; IoP Inside Story site is excellent -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insidestory.iop.org/insidestory_flash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 uses of radioactivity: industry, archaeology, smoke det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clear electricity – how do fission reactors work, might fusion be a future energy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students are interested in nuclear weapons, nuclear waste and the stories about weapons proliferation and assassinations with Po-210 that they here in 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Background Radioactivit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1142640"/>
            <a:ext cx="760392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udents are unaware that radiation occurs naturally around us all the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background.jpg"/>
          <p:cNvPicPr/>
          <p:nvPr/>
        </p:nvPicPr>
        <p:blipFill>
          <a:blip r:embed="rId1"/>
          <a:stretch/>
        </p:blipFill>
        <p:spPr>
          <a:xfrm>
            <a:off x="2443320" y="1862280"/>
            <a:ext cx="4257360" cy="3133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500040" y="52862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nucleonica site is a useful resour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nucleonica.net/naturalra.asp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Teacher concern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142640"/>
            <a:ext cx="7818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practical work can I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I handle sources to keep risk to my students and myself to a minim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can students handle sour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legal require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can I get mor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mg_mid_5302.gif"/>
          <p:cNvPicPr/>
          <p:nvPr/>
        </p:nvPicPr>
        <p:blipFill>
          <a:blip r:embed="rId1"/>
          <a:stretch/>
        </p:blipFill>
        <p:spPr>
          <a:xfrm>
            <a:off x="5357880" y="4033800"/>
            <a:ext cx="29289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Sources of suppor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142640"/>
            <a:ext cx="7818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r school will have a radiation protection supervisor – they will have been on external training and be able to explain safe practice to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will be responsible for checking the sources and ensuring protocols are follow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RPS course is not expensive and is only one day – but it does not focus on classroom pract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practicalphysics.or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Atoms and nucl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oP Teaching Radioactivity D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achers TV – Demonstrating Physics: Radi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veral excellent ICT resources &amp; sim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ation Dos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1213920"/>
            <a:ext cx="778680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a source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ecquerels (B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sorbed do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the amount of energy that cells absorb and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rays (G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gray = 1 Joule absorbed per kg of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a measure of the possible harm from radiation and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iver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S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UK annual average dose is 2.6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Maximum allowable dose for employees is 20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Diagnostic medical radiation gives an average dose of 0.37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A teachers hand receives a 0.01mSv dose during a standard school 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21556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oactivity - an historical contex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142640"/>
            <a:ext cx="778680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story of atoms, ideal example of how scientific idea evolve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896, Henri Becquerel discovered radioactivity when invisible rays from fluorescent salts (potassium uranyl sulfate) were detected by photographic fil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 carried out my Marie and Pierre Curie, discovery of Polonium and Ra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Six experiments that change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curie_marie.jpg"/>
          <p:cNvPicPr/>
          <p:nvPr/>
        </p:nvPicPr>
        <p:blipFill>
          <a:blip r:embed="rId1"/>
          <a:stretch/>
        </p:blipFill>
        <p:spPr>
          <a:xfrm>
            <a:off x="6572160" y="4357800"/>
            <a:ext cx="1866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utherford Scattering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1142640"/>
            <a:ext cx="760392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fore radioactivity could be explained the structure of the atom needed to be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3206520" cy="185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714920" y="1857240"/>
            <a:ext cx="3600360" cy="319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357120" y="3963960"/>
            <a:ext cx="4237200" cy="2894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4714920" y="514368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A cosmic onion RSCL cl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c000"/>
                </a:solidFill>
                <a:latin typeface="Calibri"/>
              </a:rPr>
              <a:t>http://www-outreach.phy.cam.ac.uk/camphy/nucleus/nucleus1_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2309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76993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839808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357120"/>
            <a:ext cx="790920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0" y="3198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ons’ (protons and neutrons) are held together by  th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trong for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57120" y="582480"/>
            <a:ext cx="822636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Learning Outcom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571400"/>
            <a:ext cx="69832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ide evidence for the structure of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radioactivity in terms of the instability of nucl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properties of alpha, beta and gamma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te and use units of activity and of radiation d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pret and use nuclear equations, A and Z, isoto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Teach ‘How Science Works’ skills through radi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Appreciate why teaching should start with macroscopic phenomena before moving to microscopic descriptions and expla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Use a range of models and examples to illustrate radioactive phenom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14200" y="623880"/>
            <a:ext cx="83692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oactive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7120" y="1213920"/>
            <a:ext cx="723744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dioactivity is a random process – this means the chance of any particular atom decaying is constant with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’t make predictions for individual a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ever, over large numbers of atoms we can identify patterns because of the statistics invol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allows us to talk about half-life for a radioactive isotope, which can be modelled in a number of way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ing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0200" y="499680"/>
            <a:ext cx="7231320" cy="32130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Data from drawing pin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1"/>
          <a:stretch/>
        </p:blipFill>
        <p:spPr>
          <a:xfrm>
            <a:off x="781200" y="1352520"/>
            <a:ext cx="6710040" cy="4152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857160" y="5857920"/>
            <a:ext cx="69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Origin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75722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athematical model of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00" y="1213920"/>
            <a:ext cx="778644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nucleus in an isotope has a certain chance of decaying in a unit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called 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ay consta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and has units of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A) of a sample is a measure of how many atoms decay each second and has units of Becquerels (Bq) also dimensionally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= -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lf-life and decay constant are related by the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 ln2/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athematical model of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0" name="Content Placeholder 3" descr="exponential-decay-graph.gif"/>
          <p:cNvPicPr/>
          <p:nvPr/>
        </p:nvPicPr>
        <p:blipFill>
          <a:blip r:embed="rId1"/>
          <a:stretch/>
        </p:blipFill>
        <p:spPr>
          <a:xfrm>
            <a:off x="714240" y="1000080"/>
            <a:ext cx="5286600" cy="42530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928800" y="5643720"/>
            <a:ext cx="6286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quation of line: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 = N</a:t>
            </a:r>
            <a:r>
              <a:rPr b="0" lang="en-GB" sz="44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0" lang="en-GB" sz="44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el-GR" sz="4400" spc="-1" strike="noStrike" baseline="30000">
                <a:solidFill>
                  <a:srgbClr val="ff0000"/>
                </a:solidFill>
                <a:latin typeface="Calibri"/>
              </a:rPr>
              <a:t>λ</a:t>
            </a:r>
            <a:r>
              <a:rPr b="0" lang="en-GB" sz="4400" spc="-1" strike="noStrike" baseline="30000">
                <a:solidFill>
                  <a:srgbClr val="ff0000"/>
                </a:solidFill>
                <a:latin typeface="Calibri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0200" y="428400"/>
            <a:ext cx="7231320" cy="32842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Nuclear Stabilit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3" name="Content Placeholder 3" descr="nuclear_force.jpg"/>
          <p:cNvPicPr/>
          <p:nvPr/>
        </p:nvPicPr>
        <p:blipFill>
          <a:blip r:embed="rId1"/>
          <a:stretch/>
        </p:blipFill>
        <p:spPr>
          <a:xfrm>
            <a:off x="857160" y="1428840"/>
            <a:ext cx="4786560" cy="3732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6000840" y="1571760"/>
            <a:ext cx="235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nucleus can only be stable if there is a balance between the repulsive (coulombic) force and the attractive (strong) fo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7120" y="55008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ttp://www.iop.org/activity/education/Teaching_Resources/Teaching%20Advanced%20Physics/page_8325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200" y="571680"/>
            <a:ext cx="7231320" cy="31413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558720" y="169920"/>
            <a:ext cx="802476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0560" y="357120"/>
            <a:ext cx="76233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ore on alpha, beta and gamma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1280" y="1428480"/>
            <a:ext cx="6983280" cy="542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alphadecay.gif"/>
          <p:cNvPicPr/>
          <p:nvPr/>
        </p:nvPicPr>
        <p:blipFill>
          <a:blip r:embed="rId1"/>
          <a:stretch/>
        </p:blipFill>
        <p:spPr>
          <a:xfrm>
            <a:off x="2143080" y="1714680"/>
            <a:ext cx="4286160" cy="164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etadecay.gif"/>
          <p:cNvPicPr/>
          <p:nvPr/>
        </p:nvPicPr>
        <p:blipFill>
          <a:blip r:embed="rId2"/>
          <a:stretch/>
        </p:blipFill>
        <p:spPr>
          <a:xfrm>
            <a:off x="3714840" y="3429000"/>
            <a:ext cx="41576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Cloud Chamber Evidenc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44" name="Content Placeholder 3" descr="1188.jpg"/>
          <p:cNvPicPr/>
          <p:nvPr/>
        </p:nvPicPr>
        <p:blipFill>
          <a:blip r:embed="rId1"/>
          <a:stretch/>
        </p:blipFill>
        <p:spPr>
          <a:xfrm>
            <a:off x="642960" y="1214280"/>
            <a:ext cx="4618080" cy="36435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5643720" y="150012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pha Particle Tr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Plan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42960" y="1517760"/>
          <a:ext cx="7786800" cy="4246560"/>
        </p:xfrm>
        <a:graphic>
          <a:graphicData uri="http://schemas.openxmlformats.org/drawingml/2006/table">
            <a:tbl>
              <a:tblPr/>
              <a:tblGrid>
                <a:gridCol w="1911240"/>
                <a:gridCol w="3279960"/>
                <a:gridCol w="25956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-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need to know about radioactivity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0-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llenges for teaching radio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0-11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rical perspective – ideas about ato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0-11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5-1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ential model (Su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T Re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5-1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-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T Re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ential model (su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-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5-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on alpha, beta and gam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2309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do we need to know about radioactivity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1714320"/>
            <a:ext cx="69832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groups, sort statements into topics/year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some gap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ideas progress across KS4 &amp; Post-16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do you feel confident/what looks like the biggest challe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10 minu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makes teaching radioactivity difficult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8" name="Oval 3"/>
          <p:cNvSpPr/>
          <p:nvPr/>
        </p:nvSpPr>
        <p:spPr>
          <a:xfrm>
            <a:off x="642960" y="1785960"/>
            <a:ext cx="3571920" cy="19288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285920" y="22147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onceptu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oo small to s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bstract id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143080" y="3857760"/>
            <a:ext cx="3643200" cy="18572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500200" y="4286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udent perce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adioactivity is b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uclear weapons/pol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714920" y="2143080"/>
            <a:ext cx="3500280" cy="1857600"/>
          </a:xfrm>
          <a:prstGeom prst="ellipse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5500800" y="2643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eacher conc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What is sa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andling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2309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Conceptual difficulti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65" name="Content Placeholder 3" descr="feynmann.jpg"/>
          <p:cNvPicPr/>
          <p:nvPr/>
        </p:nvPicPr>
        <p:blipFill>
          <a:blip r:embed="rId1"/>
          <a:stretch/>
        </p:blipFill>
        <p:spPr>
          <a:xfrm>
            <a:off x="571680" y="1285920"/>
            <a:ext cx="1357200" cy="1542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71680" y="300024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Richard Feyn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ounded Rectangular Callout 5"/>
          <p:cNvSpPr/>
          <p:nvPr/>
        </p:nvSpPr>
        <p:spPr>
          <a:xfrm>
            <a:off x="2643120" y="1285920"/>
            <a:ext cx="3214800" cy="928800"/>
          </a:xfrm>
          <a:prstGeom prst="wedgeRoundRectCallout">
            <a:avLst>
              <a:gd name="adj1" fmla="val -85439"/>
              <a:gd name="adj2" fmla="val 55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857680" y="1428840"/>
            <a:ext cx="27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verything is made of a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00200" y="2643120"/>
            <a:ext cx="578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oms are almost unimaginably small – you can’t see them even with a really good microscope because they are smaller than the wavelength of ligh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atom is almost entirely empty space with nearly all it’s mass in a tiny central nucle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tiny central nucleus is made up of even smaller bits – these do stuff we can term radio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8" descr="270px-Stylised_Lithium_Atom.svg.png"/>
          <p:cNvPicPr/>
          <p:nvPr/>
        </p:nvPicPr>
        <p:blipFill>
          <a:blip r:embed="rId2"/>
          <a:stretch/>
        </p:blipFill>
        <p:spPr>
          <a:xfrm>
            <a:off x="357120" y="3786120"/>
            <a:ext cx="1981440" cy="22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eam-05-graphene.jpg.png"/>
          <p:cNvPicPr/>
          <p:nvPr/>
        </p:nvPicPr>
        <p:blipFill>
          <a:blip r:embed="rId3"/>
          <a:stretch/>
        </p:blipFill>
        <p:spPr>
          <a:xfrm>
            <a:off x="6500880" y="4643280"/>
            <a:ext cx="1379520" cy="1928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4286160" y="61437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Electron micrograph of carbon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00040" y="600084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Stylised lithium at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Addressing conceptual difficulti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714320"/>
            <a:ext cx="69832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 shows mid and lower ability students find the particle model of matter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 introducing radioactivity in terms of atomic and nuclear structure is unhelpfu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rt from 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henomen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demonstrate, e.g. effects getting smaller with distance from source or which materials radiation can and can’t penet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dels of microscopic processes can help students develop understanding but may also add to misconceptions – important that students question th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‘</a:t>
            </a: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ation is bad’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1142640"/>
            <a:ext cx="69832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udents (and the population in general) perceive radiation as a bad th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tectable by human s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rious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cers (time delay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amination (long las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aware of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a sc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crecy – industrial, military and political intere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Mushroom cloud.jpg"/>
          <p:cNvPicPr/>
          <p:nvPr/>
        </p:nvPicPr>
        <p:blipFill>
          <a:blip r:embed="rId1"/>
          <a:stretch/>
        </p:blipFill>
        <p:spPr>
          <a:xfrm>
            <a:off x="6189840" y="1714680"/>
            <a:ext cx="2446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do you think of radiation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80" name="Picture 3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flash_icon"/>
          <p:cNvPicPr/>
          <p:nvPr/>
        </p:nvPicPr>
        <p:blipFill>
          <a:blip r:embed="rId2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notes_icon"/>
          <p:cNvPicPr/>
          <p:nvPr/>
        </p:nvPicPr>
        <p:blipFill>
          <a:blip r:embed="rId3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</dc:creator>
  <dc:description/>
  <dc:language>en-US</dc:language>
  <cp:lastModifiedBy>Neil</cp:lastModifiedBy>
  <dcterms:modified xsi:type="dcterms:W3CDTF">2011-03-07T16:33:36Z</dcterms:modified>
  <cp:revision>168</cp:revision>
  <dc:subject/>
  <dc:title>PowerPoint Presentation</dc:title>
</cp:coreProperties>
</file>